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50050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750000" cy="9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6"/>
          </p:nvPr>
        </p:nvSpPr>
        <p:spPr>
          <a:xfrm>
            <a:off x="3822840" y="-360"/>
            <a:ext cx="2923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44960" cy="37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7"/>
          </p:nvPr>
        </p:nvSpPr>
        <p:spPr>
          <a:xfrm>
            <a:off x="-360" y="939132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8"/>
          </p:nvPr>
        </p:nvSpPr>
        <p:spPr>
          <a:xfrm>
            <a:off x="3822840" y="9391320"/>
            <a:ext cx="2923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0CF6-387F-4C71-966E-9E2E2CD42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22840" y="9391680"/>
            <a:ext cx="2923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C0A4-77EF-4082-B0C0-AAD92EC0A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22840" y="9391680"/>
            <a:ext cx="2923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E2BB-2A68-46AF-8C1C-39C286753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22840" y="9391680"/>
            <a:ext cx="2923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B3B3-BF86-4AE6-BA29-6FCD73F20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4027-8CD4-4CB0-8B06-D25C2B14E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E5EE-F684-4714-8083-2B11CAF9C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ACF1-96F9-45DE-AE0E-E66B941CF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CC2E-3E6C-4E54-9B4F-FCF32C403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F27B5-4957-47FC-9A67-B190699F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D0A63-6460-4518-9626-7CBBF185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AFDEA-CB67-480F-AE3A-1C077889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F4DE1-5439-4A2A-8C47-B3AD2146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A4890-1AD7-44E2-B63F-6451A21C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B3F2B-6129-479E-B067-16B14382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01F95-2E25-4F7E-BAAA-ECB7E16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AEF1-FB54-474C-85A6-90AF5D29C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C8598-7D94-487D-8311-6F0F9C83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9A825-56E8-4393-8048-BFF47A7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CA115-1EA9-4462-9DE9-D1350A03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EB93D-D0B9-4985-B661-1C64CD33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C0529-7175-4E66-B26C-7A24A499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3C8A-7347-4322-901F-E6CF5A971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5DD0-F63A-4162-B3DC-D13279214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4996-3E0E-40C2-8C2B-48B8A1B29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2FDD-A4C1-4EF7-9094-109205FF4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4E0B-E29B-46F5-945F-B4EAF3A7A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B479-65DC-4338-9F4A-5584BB0EC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C2E9-2392-4A7F-8E39-0666CE578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7EF8-8A4F-4AC4-B2C7-1285628C6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20"/>
          <p:cNvSpPr/>
          <p:nvPr/>
        </p:nvSpPr>
        <p:spPr>
          <a:xfrm>
            <a:off x="7227720" y="1440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IT-3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03360"/>
            <a:ext cx="9009000" cy="1052640"/>
            <a:chOff x="0" y="150336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1611360"/>
              <a:ext cx="712440" cy="474840"/>
              <a:chOff x="293760" y="161136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16113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16113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033640"/>
              <a:ext cx="739800" cy="474840"/>
              <a:chOff x="417600" y="203364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0336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0336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19605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15033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23256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Rectangle 18"/>
          <p:cNvSpPr/>
          <p:nvPr/>
        </p:nvSpPr>
        <p:spPr>
          <a:xfrm>
            <a:off x="6588000" y="5734080"/>
            <a:ext cx="226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ugust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7227720" y="1440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IT-3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22" descr="TOG"/>
          <p:cNvPicPr/>
          <p:nvPr/>
        </p:nvPicPr>
        <p:blipFill>
          <a:blip r:embed="rId2"/>
          <a:stretch/>
        </p:blipFill>
        <p:spPr>
          <a:xfrm>
            <a:off x="3627360" y="2573280"/>
            <a:ext cx="2497320" cy="341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80EF-18BA-4280-A5CB-CFAE521D904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7BEA-E35E-4D99-B692-F548C65564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-300 No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3" descr="FROM2"/>
          <p:cNvPicPr/>
          <p:nvPr/>
        </p:nvPicPr>
        <p:blipFill>
          <a:blip r:embed="rId1"/>
          <a:stretch/>
        </p:blipFill>
        <p:spPr>
          <a:xfrm>
            <a:off x="4149720" y="5229360"/>
            <a:ext cx="1181160" cy="15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Picture 54" descr="FROM1"/>
          <p:cNvPicPr/>
          <p:nvPr/>
        </p:nvPicPr>
        <p:blipFill>
          <a:blip r:embed="rId2"/>
          <a:stretch/>
        </p:blipFill>
        <p:spPr>
          <a:xfrm>
            <a:off x="6264360" y="5230800"/>
            <a:ext cx="1181160" cy="157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スライド番号プレースホルダ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7759-1908-4A37-B649-BEF184FA0D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-300 Memory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6" descr="1"/>
          <p:cNvPicPr/>
          <p:nvPr/>
        </p:nvPicPr>
        <p:blipFill>
          <a:blip r:embed="rId3"/>
          <a:stretch/>
        </p:blipFill>
        <p:spPr>
          <a:xfrm>
            <a:off x="1050840" y="4643280"/>
            <a:ext cx="7353360" cy="524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796560" y="212400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6M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050840" y="2260440"/>
            <a:ext cx="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093680" y="2425680"/>
            <a:ext cx="733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8475840" y="225900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773320" y="2443320"/>
            <a:ext cx="147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198.70M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4200480" y="2703600"/>
            <a:ext cx="4276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8475840" y="25750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4202280" y="25304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760800" y="266400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7.54MB fre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6237360" y="2933640"/>
            <a:ext cx="2205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8475840" y="2798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4202280" y="28004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423680" y="266400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.16MB in u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4202280" y="2933640"/>
            <a:ext cx="207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6270480" y="2798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1"/>
          <p:cNvPicPr/>
          <p:nvPr/>
        </p:nvPicPr>
        <p:blipFill>
          <a:blip r:embed="rId4"/>
          <a:stretch/>
        </p:blipFill>
        <p:spPr>
          <a:xfrm>
            <a:off x="1050840" y="3022560"/>
            <a:ext cx="7694640" cy="53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3796560" y="373860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6M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30"/>
          <p:cNvSpPr/>
          <p:nvPr/>
        </p:nvSpPr>
        <p:spPr>
          <a:xfrm>
            <a:off x="1050840" y="38750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1050840" y="4008600"/>
            <a:ext cx="733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8386920" y="387360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8507520" y="2963880"/>
            <a:ext cx="295200" cy="6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47"/>
          <p:cNvSpPr/>
          <p:nvPr/>
        </p:nvSpPr>
        <p:spPr>
          <a:xfrm>
            <a:off x="4076640" y="5410080"/>
            <a:ext cx="719280" cy="5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48"/>
          <p:cNvSpPr/>
          <p:nvPr/>
        </p:nvSpPr>
        <p:spPr>
          <a:xfrm>
            <a:off x="6146640" y="5219640"/>
            <a:ext cx="1395720" cy="53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50920" y="2013120"/>
            <a:ext cx="27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M (256MB MobileDD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94480" y="361944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sh ROM (256MB OneNAN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Oval 56"/>
          <p:cNvSpPr/>
          <p:nvPr/>
        </p:nvSpPr>
        <p:spPr>
          <a:xfrm>
            <a:off x="4797360" y="5410080"/>
            <a:ext cx="719280" cy="5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57"/>
          <p:cNvSpPr/>
          <p:nvPr/>
        </p:nvSpPr>
        <p:spPr>
          <a:xfrm flipH="1" flipV="1">
            <a:off x="3581280" y="4824360"/>
            <a:ext cx="586080" cy="674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58"/>
          <p:cNvSpPr/>
          <p:nvPr/>
        </p:nvSpPr>
        <p:spPr>
          <a:xfrm flipV="1">
            <a:off x="5246640" y="3294000"/>
            <a:ext cx="720720" cy="2114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59"/>
          <p:cNvSpPr/>
          <p:nvPr/>
        </p:nvSpPr>
        <p:spPr>
          <a:xfrm flipH="1" flipV="1">
            <a:off x="6821280" y="4824000"/>
            <a:ext cx="4572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694120" y="401796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66.04M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61"/>
          <p:cNvSpPr/>
          <p:nvPr/>
        </p:nvSpPr>
        <p:spPr>
          <a:xfrm>
            <a:off x="4437000" y="4284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62"/>
          <p:cNvSpPr/>
          <p:nvPr/>
        </p:nvSpPr>
        <p:spPr>
          <a:xfrm>
            <a:off x="8383680" y="41497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50440" y="428472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.62MB fre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65"/>
          <p:cNvSpPr/>
          <p:nvPr/>
        </p:nvSpPr>
        <p:spPr>
          <a:xfrm>
            <a:off x="6157800" y="4508640"/>
            <a:ext cx="2205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66"/>
          <p:cNvSpPr/>
          <p:nvPr/>
        </p:nvSpPr>
        <p:spPr>
          <a:xfrm>
            <a:off x="8385120" y="4373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4690800" y="42847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.42MB in us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69"/>
          <p:cNvSpPr/>
          <p:nvPr/>
        </p:nvSpPr>
        <p:spPr>
          <a:xfrm>
            <a:off x="4437000" y="4508640"/>
            <a:ext cx="1755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70"/>
          <p:cNvSpPr/>
          <p:nvPr/>
        </p:nvSpPr>
        <p:spPr>
          <a:xfrm>
            <a:off x="6191280" y="4373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385720" y="401796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66.16M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72"/>
          <p:cNvSpPr/>
          <p:nvPr/>
        </p:nvSpPr>
        <p:spPr>
          <a:xfrm>
            <a:off x="1827360" y="4284720"/>
            <a:ext cx="260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73"/>
          <p:cNvSpPr/>
          <p:nvPr/>
        </p:nvSpPr>
        <p:spPr>
          <a:xfrm>
            <a:off x="4435560" y="41497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74"/>
          <p:cNvSpPr/>
          <p:nvPr/>
        </p:nvSpPr>
        <p:spPr>
          <a:xfrm>
            <a:off x="1846440" y="41054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235680" y="428472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.59MB fre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76"/>
          <p:cNvSpPr/>
          <p:nvPr/>
        </p:nvSpPr>
        <p:spPr>
          <a:xfrm>
            <a:off x="3086280" y="450864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77"/>
          <p:cNvSpPr/>
          <p:nvPr/>
        </p:nvSpPr>
        <p:spPr>
          <a:xfrm>
            <a:off x="4435560" y="4373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78"/>
          <p:cNvSpPr/>
          <p:nvPr/>
        </p:nvSpPr>
        <p:spPr>
          <a:xfrm>
            <a:off x="1846440" y="43750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855800" y="42847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.57MB in us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80"/>
          <p:cNvSpPr/>
          <p:nvPr/>
        </p:nvSpPr>
        <p:spPr>
          <a:xfrm>
            <a:off x="1871640" y="4508640"/>
            <a:ext cx="1214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1"/>
          <p:cNvSpPr/>
          <p:nvPr/>
        </p:nvSpPr>
        <p:spPr>
          <a:xfrm>
            <a:off x="3086280" y="4373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FDB8-0CCC-4B10-9AD3-32F1F80038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al Opera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6920" y="1924200"/>
            <a:ext cx="62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n + CLR +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n + C-Trigger + Enter +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isk Cl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n + CLR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 o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 battery and then power on from discharge condition without main and sub battery. (You should keep about 100 hours for discharge sub battery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2" descr="1"/>
          <p:cNvPicPr/>
          <p:nvPr/>
        </p:nvPicPr>
        <p:blipFill>
          <a:blip r:embed="rId1"/>
          <a:stretch/>
        </p:blipFill>
        <p:spPr>
          <a:xfrm>
            <a:off x="476280" y="2259000"/>
            <a:ext cx="8115120" cy="3295800"/>
          </a:xfrm>
          <a:prstGeom prst="rect">
            <a:avLst/>
          </a:prstGeom>
          <a:ln w="0">
            <a:noFill/>
          </a:ln>
        </p:spPr>
      </p:pic>
      <p:sp>
        <p:nvSpPr>
          <p:cNvPr id="16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CA28-E233-4AF7-9971-7285CC11DF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al Opera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2771640" y="3112920"/>
            <a:ext cx="675000" cy="316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3583080" y="3338640"/>
            <a:ext cx="674640" cy="315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5246640" y="3382920"/>
            <a:ext cx="674640" cy="316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3583080" y="3968640"/>
            <a:ext cx="2475000" cy="316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6102360" y="3654360"/>
            <a:ext cx="674640" cy="316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ur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スライド番号プレースホルダ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C2D8-4829-43E9-9E9F-217B665BF9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187280" y="202572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finger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finger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CRO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UBLESE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950080" y="2451240"/>
            <a:ext cx="2041560" cy="272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テキスト ボックス 8"/>
          <p:cNvSpPr/>
          <p:nvPr/>
        </p:nvSpPr>
        <p:spPr>
          <a:xfrm>
            <a:off x="5353920" y="534024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confirm these op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sample progra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4:35:44Z</dcterms:created>
  <dc:creator>casio</dc:creator>
  <dc:description/>
  <dc:language>en-US</dc:language>
  <cp:lastModifiedBy>casio</cp:lastModifiedBy>
  <dcterms:modified xsi:type="dcterms:W3CDTF">2011-08-11T08:00:25Z</dcterms:modified>
  <cp:revision>31</cp:revision>
  <dc:subject/>
  <dc:title>スライド 1</dc:title>
</cp:coreProperties>
</file>