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9.jpeg" ContentType="image/jpeg"/>
  <Override PartName="/ppt/media/image3.wmf" ContentType="image/x-wmf"/>
  <Override PartName="/ppt/media/image52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45.jpeg" ContentType="image/jpeg"/>
  <Override PartName="/ppt/media/image36.jpeg" ContentType="image/jpeg"/>
  <Override PartName="/ppt/media/image40.png" ContentType="image/png"/>
  <Override PartName="/ppt/media/image38.jpeg" ContentType="image/jpeg"/>
  <Override PartName="/ppt/media/image31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50.jpeg" ContentType="image/jpe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48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750050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750000" cy="9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6"/>
          </p:nvPr>
        </p:nvSpPr>
        <p:spPr>
          <a:xfrm>
            <a:off x="3822840" y="-360"/>
            <a:ext cx="2923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44960" cy="37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7"/>
          </p:nvPr>
        </p:nvSpPr>
        <p:spPr>
          <a:xfrm>
            <a:off x="-360" y="939132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8"/>
          </p:nvPr>
        </p:nvSpPr>
        <p:spPr>
          <a:xfrm>
            <a:off x="3822840" y="9391320"/>
            <a:ext cx="2923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28B1-3C2B-4242-A716-42EE78E0D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スライド番号プレースホルダ 3"/>
          <p:cNvSpPr/>
          <p:nvPr/>
        </p:nvSpPr>
        <p:spPr>
          <a:xfrm>
            <a:off x="3822840" y="9391680"/>
            <a:ext cx="2923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8290-8654-48D5-A375-17A9CE258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0A58-6AAB-4617-AA20-F2B823C25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95D2-B02A-4B85-A7BB-672AFA9E7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F242-1A1B-4FB3-A744-B3FC3E284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7CEA-A405-4C9B-8C49-41A63F2F6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C64D5-EF90-4159-9561-537538F3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DDA82-BAA8-424E-8F52-68C0A9F9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D4CDB-9962-4BDC-B7A8-132F8B7C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6CA52-F3D3-4405-A883-500E530D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44BB9-BB26-4419-AD38-E84DD460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5361D-9BBC-4328-AADF-9777202E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BE29F-8DD3-4837-A7A5-8F9BD41A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DF0D-1B7E-4438-BED1-4F2996DAF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8DD79-1117-4C55-839B-4BCFDCE6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63759-C35E-4711-AE60-95944449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8F7BA-E9A7-4A3E-AC43-4863AC4A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AF1E2-F5BD-4BA4-888E-E7AC8CC0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D50C0-1DA6-4908-9D8A-3E6D1577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EECB-9C8F-4F4E-A4B2-F9DA09C10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9488D-8372-4EFE-84EB-D1CAD5A67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E2A9-3A7E-4C14-B8A6-1D08553DE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085C-2981-42AC-921E-7951E717B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CD53A-23EF-434C-94C0-70DA10CD0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B800-A112-4991-82A3-E2896A592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4D61-AE9D-4B01-AB94-C3A9FD107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18E1-750F-4F70-8CE4-2367DF069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20"/>
          <p:cNvSpPr/>
          <p:nvPr/>
        </p:nvSpPr>
        <p:spPr>
          <a:xfrm>
            <a:off x="7227720" y="1440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IT-3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0" y="1503360"/>
            <a:ext cx="9009000" cy="1052640"/>
            <a:chOff x="0" y="150336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1611360"/>
              <a:ext cx="712440" cy="474840"/>
              <a:chOff x="293760" y="161136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16113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16113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033640"/>
              <a:ext cx="739800" cy="474840"/>
              <a:chOff x="417600" y="203364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0336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0336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19605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15033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23256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F45B-D10A-44CB-8A69-6BA59F28C65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6588000" y="5734080"/>
            <a:ext cx="226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ugust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7227720" y="1440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IT-3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27360" y="2573280"/>
            <a:ext cx="2497320" cy="341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2.casio.co.jp/system_en/pa/PADealer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2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9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9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2.casio.co.jp/system_en/pa/PADealer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EE39-BAA3-4611-878F-E877DC25C1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Gu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3143-1D7C-4753-808E-0D5E0E4CD0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naged Code Development Too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826920" y="1944720"/>
            <a:ext cx="799308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Tools for Managed code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Microsoft (Soft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Studio 2005 + SP1 (or 2008 + SP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 Professional SD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.5.3 Developer Tool K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.5 Developer Tool Kit (If necessa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Sync 4.5 (or lat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Device Center 6.1 (for Windows Vis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* Please download tools listed above from Microsoft Home Pag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CASIO (Soft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SIO IT-300 BDK (Basic Development Ki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* Please download tools listed above from Microsoft Home Pag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  <a:hlinkClick r:id="rId1"/>
              </a:rPr>
              <a:t>http://www2.casio.co.jp/system_en/pa/PADealer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CASIO (Hard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-300 including HA-J65US (USB and charging unit) and USB c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80920" y="2933640"/>
            <a:ext cx="4781520" cy="2774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357720" y="3584520"/>
            <a:ext cx="4724280" cy="2741760"/>
          </a:xfrm>
          <a:prstGeom prst="rect">
            <a:avLst/>
          </a:prstGeom>
          <a:ln w="0">
            <a:noFill/>
          </a:ln>
        </p:spPr>
      </p:pic>
      <p:sp>
        <p:nvSpPr>
          <p:cNvPr id="18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45F2-2E10-4867-B2AB-2D03D3AA31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725040" y="212580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583920" y="2508120"/>
            <a:ext cx="80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up Visual Studio 2005 and create new project, then select VB or VC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971640" y="3743280"/>
            <a:ext cx="107928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873720" y="56275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3333960" y="6324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C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Oval 20"/>
          <p:cNvSpPr/>
          <p:nvPr/>
        </p:nvSpPr>
        <p:spPr>
          <a:xfrm>
            <a:off x="3132000" y="4149720"/>
            <a:ext cx="117000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27000" y="2394000"/>
            <a:ext cx="4811760" cy="396864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4"/>
          <p:cNvGrpSpPr/>
          <p:nvPr/>
        </p:nvGrpSpPr>
        <p:grpSpPr>
          <a:xfrm>
            <a:off x="4786200" y="3429000"/>
            <a:ext cx="3655800" cy="1584000"/>
            <a:chOff x="4786200" y="3429000"/>
            <a:chExt cx="3655800" cy="1584000"/>
          </a:xfrm>
        </p:grpSpPr>
        <p:sp>
          <p:nvSpPr>
            <p:cNvPr id="194" name="Text Box 39"/>
            <p:cNvSpPr/>
            <p:nvPr/>
          </p:nvSpPr>
          <p:spPr>
            <a:xfrm>
              <a:off x="6067080" y="37893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B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40"/>
            <p:cNvSpPr/>
            <p:nvPr/>
          </p:nvSpPr>
          <p:spPr>
            <a:xfrm>
              <a:off x="6797160" y="4365720"/>
              <a:ext cx="1553760" cy="360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41"/>
            <p:cNvSpPr/>
            <p:nvPr/>
          </p:nvSpPr>
          <p:spPr>
            <a:xfrm>
              <a:off x="6706440" y="3429000"/>
              <a:ext cx="181440" cy="129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42"/>
            <p:cNvSpPr/>
            <p:nvPr/>
          </p:nvSpPr>
          <p:spPr>
            <a:xfrm>
              <a:off x="8260560" y="3429000"/>
              <a:ext cx="181440" cy="129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98" name="AutoShape 43"/>
            <p:cNvCxnSpPr>
              <a:endCxn id="196" idx="1"/>
            </p:cNvCxnSpPr>
            <p:nvPr/>
          </p:nvCxnSpPr>
          <p:spPr>
            <a:xfrm flipV="1">
              <a:off x="4786200" y="4077720"/>
              <a:ext cx="1920960" cy="935640"/>
            </a:xfrm>
            <a:prstGeom prst="curvedConnector5">
              <a:avLst>
                <a:gd name="adj1" fmla="val 49934"/>
                <a:gd name="adj2" fmla="val 50000"/>
                <a:gd name="adj3" fmla="val 49934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9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8E7B-3081-4B29-B2BE-D5520B5DC6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2727360" y="2619360"/>
            <a:ext cx="57636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42"/>
          <p:cNvSpPr/>
          <p:nvPr/>
        </p:nvSpPr>
        <p:spPr>
          <a:xfrm>
            <a:off x="3176640" y="1854360"/>
            <a:ext cx="2665440" cy="431640"/>
          </a:xfrm>
          <a:prstGeom prst="wedgeRoundRectCallout">
            <a:avLst>
              <a:gd name="adj1" fmla="val -40828"/>
              <a:gd name="adj2" fmla="val 14191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 Debugg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725040" y="198900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02360" y="1854360"/>
            <a:ext cx="1209600" cy="2454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194600" y="2079720"/>
            <a:ext cx="844560" cy="1125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8"/>
          <p:cNvSpPr/>
          <p:nvPr/>
        </p:nvSpPr>
        <p:spPr>
          <a:xfrm>
            <a:off x="7363800" y="2303640"/>
            <a:ext cx="53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-30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122720" y="4734000"/>
            <a:ext cx="3556080" cy="18478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41"/>
          <p:cNvSpPr/>
          <p:nvPr/>
        </p:nvSpPr>
        <p:spPr>
          <a:xfrm>
            <a:off x="1871640" y="6129360"/>
            <a:ext cx="2076480" cy="495360"/>
          </a:xfrm>
          <a:prstGeom prst="wedgeRoundRectCallout">
            <a:avLst>
              <a:gd name="adj1" fmla="val 75458"/>
              <a:gd name="adj2" fmla="val -192629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lect “Windows Mobile 6 Professional Device”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1681-3769-4629-9F90-378B7F207C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age of Common Device Contro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Visual C+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VB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8098-543F-4FB1-B8FD-7A6391FDA7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we have released the following Common Device Control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587880" y="297972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629160" y="29811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er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531840" y="29862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B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359400" y="333864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:\Program Files\CASIO\MBSys\CAB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290040" y="334476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:\Program Files\CASIO\MBSys\INCLU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20160" y="3344760"/>
            <a:ext cx="33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:\Program Files\CASIO\MBSys\LIB\ARMV4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51280" y="3789360"/>
            <a:ext cx="1390680" cy="1574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1350720" cy="111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507000" y="3789360"/>
            <a:ext cx="20703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801880" y="2664000"/>
            <a:ext cx="5370480" cy="3914640"/>
          </a:xfrm>
          <a:prstGeom prst="rect">
            <a:avLst/>
          </a:prstGeom>
          <a:ln w="0">
            <a:noFill/>
          </a:ln>
        </p:spPr>
      </p:pic>
      <p:sp>
        <p:nvSpPr>
          <p:cNvPr id="225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4053-A0FA-443F-9707-5961D8ED05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GetModel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n system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AutoShape 16"/>
          <p:cNvSpPr/>
          <p:nvPr/>
        </p:nvSpPr>
        <p:spPr>
          <a:xfrm>
            <a:off x="1062000" y="5364000"/>
            <a:ext cx="4680000" cy="809640"/>
          </a:xfrm>
          <a:prstGeom prst="wedgeRoundRectCallout">
            <a:avLst>
              <a:gd name="adj1" fmla="val -5291"/>
              <a:gd name="adj2" fmla="val -194703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, you app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#include “SystemLib.h” sentence to use System librar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8" descr=""/>
          <p:cNvPicPr/>
          <p:nvPr/>
        </p:nvPicPr>
        <p:blipFill>
          <a:blip r:embed="rId1"/>
          <a:stretch/>
        </p:blipFill>
        <p:spPr>
          <a:xfrm>
            <a:off x="1285920" y="2392200"/>
            <a:ext cx="5716440" cy="4287960"/>
          </a:xfrm>
          <a:prstGeom prst="rect">
            <a:avLst/>
          </a:prstGeom>
          <a:ln w="0">
            <a:noFill/>
          </a:ln>
        </p:spPr>
      </p:pic>
      <p:sp>
        <p:nvSpPr>
          <p:cNvPr id="230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3B37-8635-4FF6-829F-8665CC46D7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537000" y="3024360"/>
            <a:ext cx="4680000" cy="583920"/>
          </a:xfrm>
          <a:prstGeom prst="wedgeRoundRectCallout">
            <a:avLst>
              <a:gd name="adj1" fmla="val -49185"/>
              <a:gd name="adj2" fmla="val 117935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should append “SysGetModelName” function sentence like thi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32000" y="2595600"/>
            <a:ext cx="6300720" cy="3817800"/>
          </a:xfrm>
          <a:prstGeom prst="rect">
            <a:avLst/>
          </a:prstGeom>
          <a:ln w="0">
            <a:noFill/>
          </a:ln>
        </p:spPr>
      </p:pic>
      <p:sp>
        <p:nvSpPr>
          <p:cNvPr id="234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1262-C72C-45E6-B040-E2C74D15F0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4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file path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3581280" y="4508640"/>
            <a:ext cx="4680000" cy="583920"/>
          </a:xfrm>
          <a:prstGeom prst="wedgeRoundRectCallout">
            <a:avLst>
              <a:gd name="adj1" fmla="val -12277"/>
              <a:gd name="adj2" fmla="val -245652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set header file path setting in this “Property Pages”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8"/>
          <p:cNvSpPr/>
          <p:nvPr/>
        </p:nvSpPr>
        <p:spPr>
          <a:xfrm>
            <a:off x="1646280" y="3833640"/>
            <a:ext cx="94464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422360" y="2494080"/>
            <a:ext cx="6838920" cy="4143240"/>
          </a:xfrm>
          <a:prstGeom prst="rect">
            <a:avLst/>
          </a:prstGeom>
          <a:ln w="0">
            <a:noFill/>
          </a:ln>
        </p:spPr>
      </p:pic>
      <p:sp>
        <p:nvSpPr>
          <p:cNvPr id="240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1A04-26B5-49AF-A665-67FCD046A9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rary file path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3492360" y="5230800"/>
            <a:ext cx="4680000" cy="584280"/>
          </a:xfrm>
          <a:prstGeom prst="wedgeRoundRectCallout">
            <a:avLst>
              <a:gd name="adj1" fmla="val -5087"/>
              <a:gd name="adj2" fmla="val -192120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set library file path setting in this “Property Pages”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1782720" y="3968640"/>
            <a:ext cx="94464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332000" y="2530440"/>
            <a:ext cx="6705360" cy="4062600"/>
          </a:xfrm>
          <a:prstGeom prst="rect">
            <a:avLst/>
          </a:prstGeom>
          <a:ln w="0">
            <a:noFill/>
          </a:ln>
        </p:spPr>
      </p:pic>
      <p:sp>
        <p:nvSpPr>
          <p:cNvPr id="246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C88C-F244-46DA-B13C-E37DC519F2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6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rary file path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3178080" y="4194000"/>
            <a:ext cx="4680000" cy="584280"/>
          </a:xfrm>
          <a:prstGeom prst="wedgeRoundRectCallout">
            <a:avLst>
              <a:gd name="adj1" fmla="val -5087"/>
              <a:gd name="adj2" fmla="val -192120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set library file name in this “Property Pages”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6"/>
          <p:cNvSpPr/>
          <p:nvPr/>
        </p:nvSpPr>
        <p:spPr>
          <a:xfrm>
            <a:off x="1736640" y="4149720"/>
            <a:ext cx="944640" cy="181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4DBD-3F44-43B0-9C6A-6EF9A2C5E4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election of Target Platfor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716360" y="3429000"/>
            <a:ext cx="3600720" cy="3024360"/>
          </a:xfrm>
          <a:prstGeom prst="rect">
            <a:avLst/>
          </a:prstGeom>
          <a:noFill/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3919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7" descr="arrow001"/>
          <p:cNvPicPr/>
          <p:nvPr/>
        </p:nvPicPr>
        <p:blipFill>
          <a:blip r:embed="rId1"/>
          <a:stretch/>
        </p:blipFill>
        <p:spPr>
          <a:xfrm>
            <a:off x="468360" y="2133720"/>
            <a:ext cx="1225440" cy="2394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5437080" y="3789360"/>
            <a:ext cx="25196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 Cl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437080" y="5229360"/>
            <a:ext cx="2664000" cy="10810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ive Cl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692360" y="1989000"/>
            <a:ext cx="2158920" cy="1079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1692360" y="3789360"/>
            <a:ext cx="2158920" cy="107964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29760" y="306540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13" descr="arrow001"/>
          <p:cNvPicPr/>
          <p:nvPr/>
        </p:nvPicPr>
        <p:blipFill>
          <a:blip r:embed="rId2"/>
          <a:stretch/>
        </p:blipFill>
        <p:spPr>
          <a:xfrm>
            <a:off x="4068720" y="4149720"/>
            <a:ext cx="109368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4861080" y="2781360"/>
            <a:ext cx="3314520" cy="703800"/>
          </a:xfrm>
          <a:prstGeom prst="rect">
            <a:avLst/>
          </a:prstGeom>
          <a:solidFill>
            <a:srgbClr val="dddddd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on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565440" y="4816440"/>
            <a:ext cx="18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04880" y="2432160"/>
            <a:ext cx="5937120" cy="4327560"/>
          </a:xfrm>
          <a:prstGeom prst="rect">
            <a:avLst/>
          </a:prstGeom>
          <a:ln w="0">
            <a:noFill/>
          </a:ln>
        </p:spPr>
      </p:pic>
      <p:sp>
        <p:nvSpPr>
          <p:cNvPr id="25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9698-961F-41D8-95C4-8806E268ED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7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loying and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6777000" y="3833640"/>
            <a:ext cx="2032920" cy="1854000"/>
            <a:chOff x="6777000" y="3833640"/>
            <a:chExt cx="2032920" cy="1854000"/>
          </a:xfrm>
        </p:grpSpPr>
        <p:sp>
          <p:nvSpPr>
            <p:cNvPr id="256" name="Rectangle 11"/>
            <p:cNvSpPr/>
            <p:nvPr/>
          </p:nvSpPr>
          <p:spPr>
            <a:xfrm>
              <a:off x="6882840" y="5172480"/>
              <a:ext cx="1820520" cy="5151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6777000" y="3833640"/>
              <a:ext cx="212400" cy="18540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13"/>
            <p:cNvSpPr/>
            <p:nvPr/>
          </p:nvSpPr>
          <p:spPr>
            <a:xfrm>
              <a:off x="8597520" y="3833640"/>
              <a:ext cx="212400" cy="18540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59" name="AutoShape 14"/>
          <p:cNvCxnSpPr>
            <a:endCxn id="257" idx="1"/>
          </p:cNvCxnSpPr>
          <p:nvPr/>
        </p:nvCxnSpPr>
        <p:spPr>
          <a:xfrm>
            <a:off x="5923080" y="4411800"/>
            <a:ext cx="854640" cy="349920"/>
          </a:xfrm>
          <a:prstGeom prst="curvedConnector5">
            <a:avLst>
              <a:gd name="adj1" fmla="val 49810"/>
              <a:gd name="adj2" fmla="val 49948"/>
              <a:gd name="adj3" fmla="val 4981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Oval 16"/>
          <p:cNvSpPr/>
          <p:nvPr/>
        </p:nvSpPr>
        <p:spPr>
          <a:xfrm>
            <a:off x="3041640" y="2754360"/>
            <a:ext cx="31608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232760" y="2595600"/>
            <a:ext cx="1209600" cy="2454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7424640" y="2820960"/>
            <a:ext cx="844560" cy="1125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" descr=""/>
          <p:cNvPicPr/>
          <p:nvPr/>
        </p:nvPicPr>
        <p:blipFill>
          <a:blip r:embed="rId4"/>
          <a:stretch/>
        </p:blipFill>
        <p:spPr>
          <a:xfrm>
            <a:off x="7424640" y="2792520"/>
            <a:ext cx="852480" cy="1035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8"/>
          <p:cNvSpPr/>
          <p:nvPr/>
        </p:nvSpPr>
        <p:spPr>
          <a:xfrm>
            <a:off x="7542360" y="2989440"/>
            <a:ext cx="495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-300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6124-D672-49C0-94A5-3271BEC58A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B.NET  Step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we have released the following Common Device Control Class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849320" y="29797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LL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5452200" y="29862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B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5279760" y="333864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:\Program Files\CASIO\MBSys\CAB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1613520" y="3344760"/>
            <a:ext cx="329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:\Program Files\CASIO\MBSys\Windows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516640" y="3789360"/>
            <a:ext cx="2025720" cy="781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916280" y="3789360"/>
            <a:ext cx="13953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705720" y="1957320"/>
            <a:ext cx="2276280" cy="2371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290600" y="2573280"/>
            <a:ext cx="4541760" cy="3733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816280" y="4554360"/>
            <a:ext cx="3263760" cy="21369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4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Reference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1B2A-90BE-4F42-A650-664341D47F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B.NET  Step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AutoShape 16"/>
          <p:cNvSpPr/>
          <p:nvPr/>
        </p:nvSpPr>
        <p:spPr>
          <a:xfrm rot="19030800">
            <a:off x="6102360" y="4149360"/>
            <a:ext cx="630360" cy="316080"/>
          </a:xfrm>
          <a:prstGeom prst="rightArrow">
            <a:avLst>
              <a:gd name="adj1" fmla="val 50000"/>
              <a:gd name="adj2" fmla="val 498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Oval 20"/>
          <p:cNvSpPr/>
          <p:nvPr/>
        </p:nvSpPr>
        <p:spPr>
          <a:xfrm>
            <a:off x="7227720" y="3789360"/>
            <a:ext cx="946440" cy="223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18"/>
          <p:cNvSpPr/>
          <p:nvPr/>
        </p:nvSpPr>
        <p:spPr>
          <a:xfrm>
            <a:off x="4527720" y="3519360"/>
            <a:ext cx="108108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17"/>
          <p:cNvSpPr/>
          <p:nvPr/>
        </p:nvSpPr>
        <p:spPr>
          <a:xfrm rot="19699800">
            <a:off x="4707000" y="4059000"/>
            <a:ext cx="360360" cy="583920"/>
          </a:xfrm>
          <a:prstGeom prst="downArrow">
            <a:avLst>
              <a:gd name="adj1" fmla="val 50000"/>
              <a:gd name="adj2" fmla="val 4050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AutoShape 21"/>
          <p:cNvSpPr/>
          <p:nvPr/>
        </p:nvSpPr>
        <p:spPr>
          <a:xfrm>
            <a:off x="4662360" y="5273640"/>
            <a:ext cx="4294440" cy="584280"/>
          </a:xfrm>
          <a:prstGeom prst="wedgeRoundRectCallout">
            <a:avLst>
              <a:gd name="adj1" fmla="val 23199"/>
              <a:gd name="adj2" fmla="val -272824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 of all, you append “SystemLibnet” i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erences in Solution Explor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Oval 19"/>
          <p:cNvSpPr/>
          <p:nvPr/>
        </p:nvSpPr>
        <p:spPr>
          <a:xfrm>
            <a:off x="3672000" y="5273640"/>
            <a:ext cx="90000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5761080" cy="4751640"/>
          </a:xfrm>
          <a:prstGeom prst="rect">
            <a:avLst/>
          </a:prstGeom>
          <a:ln w="0">
            <a:noFill/>
          </a:ln>
        </p:spPr>
      </p:pic>
      <p:sp>
        <p:nvSpPr>
          <p:cNvPr id="287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7F51-0786-455D-ACC9-6432322B3F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B.NET  Step 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701640" y="5408640"/>
            <a:ext cx="4680000" cy="406440"/>
          </a:xfrm>
          <a:prstGeom prst="wedgeRoundRectCallout">
            <a:avLst>
              <a:gd name="adj1" fmla="val 25337"/>
              <a:gd name="adj2" fmla="val -404296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rite code which is using system library func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01640" y="2459160"/>
            <a:ext cx="4995720" cy="4119480"/>
          </a:xfrm>
          <a:prstGeom prst="rect">
            <a:avLst/>
          </a:prstGeom>
          <a:ln w="0">
            <a:noFill/>
          </a:ln>
        </p:spPr>
      </p:pic>
      <p:sp>
        <p:nvSpPr>
          <p:cNvPr id="29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39BF-5571-4258-AEC8-EDDC5D8540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B.NET  Step 4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loying and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14"/>
          <p:cNvSpPr/>
          <p:nvPr/>
        </p:nvSpPr>
        <p:spPr>
          <a:xfrm>
            <a:off x="2681280" y="2708280"/>
            <a:ext cx="31608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367000" y="4643280"/>
            <a:ext cx="3691080" cy="1917720"/>
          </a:xfrm>
          <a:prstGeom prst="rect">
            <a:avLst/>
          </a:prstGeom>
          <a:ln w="0">
            <a:noFill/>
          </a:ln>
        </p:spPr>
      </p:pic>
      <p:sp>
        <p:nvSpPr>
          <p:cNvPr id="297" name="Oval 15"/>
          <p:cNvSpPr/>
          <p:nvPr/>
        </p:nvSpPr>
        <p:spPr>
          <a:xfrm>
            <a:off x="2232000" y="5184720"/>
            <a:ext cx="310500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Group 10"/>
          <p:cNvGrpSpPr/>
          <p:nvPr/>
        </p:nvGrpSpPr>
        <p:grpSpPr>
          <a:xfrm>
            <a:off x="6956280" y="4013280"/>
            <a:ext cx="2032920" cy="1853640"/>
            <a:chOff x="6956280" y="4013280"/>
            <a:chExt cx="2032920" cy="1853640"/>
          </a:xfrm>
        </p:grpSpPr>
        <p:sp>
          <p:nvSpPr>
            <p:cNvPr id="299" name="Rectangle 11"/>
            <p:cNvSpPr/>
            <p:nvPr/>
          </p:nvSpPr>
          <p:spPr>
            <a:xfrm>
              <a:off x="7062120" y="5351760"/>
              <a:ext cx="1820520" cy="5151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12"/>
            <p:cNvSpPr/>
            <p:nvPr/>
          </p:nvSpPr>
          <p:spPr>
            <a:xfrm>
              <a:off x="6956280" y="4013280"/>
              <a:ext cx="212400" cy="1853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13"/>
            <p:cNvSpPr/>
            <p:nvPr/>
          </p:nvSpPr>
          <p:spPr>
            <a:xfrm>
              <a:off x="8776800" y="4013280"/>
              <a:ext cx="212400" cy="1853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302" name="AutoShape 14"/>
          <p:cNvCxnSpPr>
            <a:endCxn id="300" idx="1"/>
          </p:cNvCxnSpPr>
          <p:nvPr/>
        </p:nvCxnSpPr>
        <p:spPr>
          <a:xfrm>
            <a:off x="6102360" y="4591080"/>
            <a:ext cx="854640" cy="349920"/>
          </a:xfrm>
          <a:prstGeom prst="curvedConnector5">
            <a:avLst>
              <a:gd name="adj1" fmla="val 49810"/>
              <a:gd name="adj2" fmla="val 49948"/>
              <a:gd name="adj3" fmla="val 49810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7412040" y="2774880"/>
            <a:ext cx="1209600" cy="2454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7593120" y="3036960"/>
            <a:ext cx="847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5529-B791-4576-B2A6-67A309F967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age of Emul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Visual C+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VB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Device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56C9-552E-46F0-B5C9-21AE41BDB6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isual C++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tart emulation, r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IT-300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Start men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IO Device E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1"/>
          <a:stretch/>
        </p:blipFill>
        <p:spPr>
          <a:xfrm>
            <a:off x="5772240" y="3497400"/>
            <a:ext cx="1911240" cy="2766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76280" y="4508640"/>
            <a:ext cx="3276720" cy="666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808440" y="3519360"/>
            <a:ext cx="18223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2057-9CCD-459D-B7E3-4D63CB4011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isual C++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Emulator Mana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Visual Studio 2005 menu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1"/>
          <a:stretch/>
        </p:blipFill>
        <p:spPr>
          <a:xfrm>
            <a:off x="566640" y="3249720"/>
            <a:ext cx="2205000" cy="3012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"/>
          <p:cNvPicPr/>
          <p:nvPr/>
        </p:nvPicPr>
        <p:blipFill>
          <a:blip r:embed="rId2"/>
          <a:stretch/>
        </p:blipFill>
        <p:spPr>
          <a:xfrm>
            <a:off x="2816280" y="5273640"/>
            <a:ext cx="817560" cy="554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958080" y="3389400"/>
            <a:ext cx="1822320" cy="28303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3716280" y="4103640"/>
            <a:ext cx="306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845400" y="1724040"/>
            <a:ext cx="1822320" cy="2830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"/>
          <p:cNvPicPr/>
          <p:nvPr/>
        </p:nvPicPr>
        <p:blipFill>
          <a:blip r:embed="rId2"/>
          <a:stretch/>
        </p:blipFill>
        <p:spPr>
          <a:xfrm>
            <a:off x="476280" y="2033640"/>
            <a:ext cx="3629160" cy="3095640"/>
          </a:xfrm>
          <a:prstGeom prst="rect">
            <a:avLst/>
          </a:prstGeom>
          <a:ln w="0">
            <a:noFill/>
          </a:ln>
        </p:spPr>
      </p:pic>
      <p:sp>
        <p:nvSpPr>
          <p:cNvPr id="323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96CB-98FD-43C8-80D0-89C687881C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Picture 16" descr=""/>
          <p:cNvPicPr/>
          <p:nvPr/>
        </p:nvPicPr>
        <p:blipFill>
          <a:blip r:embed="rId3"/>
          <a:stretch/>
        </p:blipFill>
        <p:spPr>
          <a:xfrm>
            <a:off x="5877000" y="4194000"/>
            <a:ext cx="2751120" cy="2421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isual C++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595440" y="3400560"/>
            <a:ext cx="1861920" cy="298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2322360" y="2124000"/>
            <a:ext cx="2953080" cy="863640"/>
          </a:xfrm>
          <a:prstGeom prst="wedgeRoundRectCallout">
            <a:avLst>
              <a:gd name="adj1" fmla="val -81398"/>
              <a:gd name="adj2" fmla="val 924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ActiveSync set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AutoShape 18"/>
          <p:cNvSpPr/>
          <p:nvPr/>
        </p:nvSpPr>
        <p:spPr>
          <a:xfrm>
            <a:off x="4481640" y="4464000"/>
            <a:ext cx="1800000" cy="504720"/>
          </a:xfrm>
          <a:prstGeom prst="rightArrow">
            <a:avLst>
              <a:gd name="adj1" fmla="val 50000"/>
              <a:gd name="adj2" fmla="val 8915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197000" y="4059360"/>
            <a:ext cx="3135240" cy="23619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15"/>
          <p:cNvSpPr/>
          <p:nvPr/>
        </p:nvSpPr>
        <p:spPr>
          <a:xfrm>
            <a:off x="3357720" y="5229360"/>
            <a:ext cx="2952720" cy="1081080"/>
          </a:xfrm>
          <a:prstGeom prst="wedgeRoundRectCallout">
            <a:avLst>
              <a:gd name="adj1" fmla="val -64944"/>
              <a:gd name="adj2" fmla="val 447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a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n ActiveSync connection will be establis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11280" y="2116080"/>
            <a:ext cx="5626080" cy="4100400"/>
          </a:xfrm>
          <a:prstGeom prst="rect">
            <a:avLst/>
          </a:prstGeom>
          <a:ln w="0">
            <a:noFill/>
          </a:ln>
        </p:spPr>
      </p:pic>
      <p:sp>
        <p:nvSpPr>
          <p:cNvPr id="33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E6E5-949A-4FF6-91ED-850BC7D327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isual C++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Oval 13"/>
          <p:cNvSpPr/>
          <p:nvPr/>
        </p:nvSpPr>
        <p:spPr>
          <a:xfrm>
            <a:off x="2097000" y="2484360"/>
            <a:ext cx="40500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AutoShape 14"/>
          <p:cNvSpPr/>
          <p:nvPr/>
        </p:nvSpPr>
        <p:spPr>
          <a:xfrm>
            <a:off x="5607000" y="3519360"/>
            <a:ext cx="1123920" cy="505080"/>
          </a:xfrm>
          <a:prstGeom prst="rightArrow">
            <a:avLst>
              <a:gd name="adj1" fmla="val 50000"/>
              <a:gd name="adj2" fmla="val 556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821640" y="2168640"/>
            <a:ext cx="2109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A07B-31DF-4442-8D36-4668B4718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anage and Nativ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042920" y="4122720"/>
          <a:ext cx="77724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22720"/>
                    <a:ext cx="7772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14"/>
          <p:cNvSpPr/>
          <p:nvPr/>
        </p:nvSpPr>
        <p:spPr>
          <a:xfrm>
            <a:off x="826920" y="2205000"/>
            <a:ext cx="2665440" cy="19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ual Studio 2005 or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　　　　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826920" y="4437000"/>
            <a:ext cx="2665440" cy="20890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ive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ual Studio 2005 or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63640" y="1988640"/>
            <a:ext cx="4825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d Cli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ecutes Managed Code on Common Language Run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n exploit .NET applications and XML Web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n develop application software by Drag &amp; Drop operation visuall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n improve productivity by Custom Contro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tive Cli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ecutes Computer Binary Co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n derive functions and performance of the devices at mos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n optimize performance and process spe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12DC-706A-40F2-A476-CC27C7B26E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B.NE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tart emulation, r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IT-300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Start men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IO Device E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1"/>
          <a:stretch/>
        </p:blipFill>
        <p:spPr>
          <a:xfrm>
            <a:off x="5772240" y="3497400"/>
            <a:ext cx="1911240" cy="27669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76280" y="4508640"/>
            <a:ext cx="3276720" cy="6667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3808440" y="3519360"/>
            <a:ext cx="18223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8589-43AE-46A6-A9FD-B3A82A4142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B.NE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Emulator Mana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Visual Studio 2005 menu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566640" y="3249720"/>
            <a:ext cx="2205000" cy="3012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"/>
          <p:cNvPicPr/>
          <p:nvPr/>
        </p:nvPicPr>
        <p:blipFill>
          <a:blip r:embed="rId2"/>
          <a:stretch/>
        </p:blipFill>
        <p:spPr>
          <a:xfrm>
            <a:off x="2816280" y="5273640"/>
            <a:ext cx="817560" cy="5540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6958080" y="3389400"/>
            <a:ext cx="1822320" cy="28303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3716280" y="4103640"/>
            <a:ext cx="306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686640" y="1763640"/>
            <a:ext cx="1822320" cy="28306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B.NE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2" name="Picture 9" descr=""/>
          <p:cNvPicPr/>
          <p:nvPr/>
        </p:nvPicPr>
        <p:blipFill>
          <a:blip r:embed="rId2"/>
          <a:stretch/>
        </p:blipFill>
        <p:spPr>
          <a:xfrm>
            <a:off x="476280" y="2033640"/>
            <a:ext cx="3629160" cy="3095640"/>
          </a:xfrm>
          <a:prstGeom prst="rect">
            <a:avLst/>
          </a:prstGeom>
          <a:ln w="0">
            <a:noFill/>
          </a:ln>
        </p:spPr>
      </p:pic>
      <p:sp>
        <p:nvSpPr>
          <p:cNvPr id="353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0DE7-E3E0-4927-B33F-3123613A96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16" descr=""/>
          <p:cNvPicPr/>
          <p:nvPr/>
        </p:nvPicPr>
        <p:blipFill>
          <a:blip r:embed="rId3"/>
          <a:stretch/>
        </p:blipFill>
        <p:spPr>
          <a:xfrm>
            <a:off x="5877000" y="4194000"/>
            <a:ext cx="2751120" cy="24210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1"/>
          <p:cNvSpPr/>
          <p:nvPr/>
        </p:nvSpPr>
        <p:spPr>
          <a:xfrm>
            <a:off x="595440" y="3400560"/>
            <a:ext cx="1861920" cy="298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utoShape 12"/>
          <p:cNvSpPr/>
          <p:nvPr/>
        </p:nvSpPr>
        <p:spPr>
          <a:xfrm>
            <a:off x="2322360" y="2124000"/>
            <a:ext cx="2953080" cy="863640"/>
          </a:xfrm>
          <a:prstGeom prst="wedgeRoundRectCallout">
            <a:avLst>
              <a:gd name="adj1" fmla="val -81398"/>
              <a:gd name="adj2" fmla="val 924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ActiveSync set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AutoShape 18"/>
          <p:cNvSpPr/>
          <p:nvPr/>
        </p:nvSpPr>
        <p:spPr>
          <a:xfrm>
            <a:off x="4481640" y="4464000"/>
            <a:ext cx="1800000" cy="504720"/>
          </a:xfrm>
          <a:prstGeom prst="rightArrow">
            <a:avLst>
              <a:gd name="adj1" fmla="val 50000"/>
              <a:gd name="adj2" fmla="val 8915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1197000" y="4059360"/>
            <a:ext cx="3135240" cy="236196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5"/>
          <p:cNvSpPr/>
          <p:nvPr/>
        </p:nvSpPr>
        <p:spPr>
          <a:xfrm>
            <a:off x="3357720" y="5229360"/>
            <a:ext cx="2952720" cy="1081080"/>
          </a:xfrm>
          <a:prstGeom prst="wedgeRoundRectCallout">
            <a:avLst>
              <a:gd name="adj1" fmla="val -71990"/>
              <a:gd name="adj2" fmla="val 3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a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n ActiveSync connection will be establis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66640" y="2259000"/>
            <a:ext cx="5626080" cy="410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511280" y="4564080"/>
            <a:ext cx="4051440" cy="2104920"/>
          </a:xfrm>
          <a:prstGeom prst="rect">
            <a:avLst/>
          </a:prstGeom>
          <a:ln w="0">
            <a:noFill/>
          </a:ln>
        </p:spPr>
      </p:pic>
      <p:sp>
        <p:nvSpPr>
          <p:cNvPr id="36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B125-4789-465A-A4BC-0AC2DE93A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B.NE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AutoShape 6"/>
          <p:cNvSpPr/>
          <p:nvPr/>
        </p:nvSpPr>
        <p:spPr>
          <a:xfrm>
            <a:off x="5651640" y="4103640"/>
            <a:ext cx="1123920" cy="504720"/>
          </a:xfrm>
          <a:prstGeom prst="rightArrow">
            <a:avLst>
              <a:gd name="adj1" fmla="val 50000"/>
              <a:gd name="adj2" fmla="val 556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Oval 14"/>
          <p:cNvSpPr/>
          <p:nvPr/>
        </p:nvSpPr>
        <p:spPr>
          <a:xfrm>
            <a:off x="2816280" y="2529000"/>
            <a:ext cx="31572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Oval 15"/>
          <p:cNvSpPr/>
          <p:nvPr/>
        </p:nvSpPr>
        <p:spPr>
          <a:xfrm>
            <a:off x="1511280" y="5094360"/>
            <a:ext cx="130500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6867360" y="2438280"/>
            <a:ext cx="20163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27360" y="2664000"/>
            <a:ext cx="1898640" cy="29588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238640" y="2664000"/>
            <a:ext cx="1908000" cy="29718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150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control the following device on this emulat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uetoo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05D5-2362-4DFB-BF2F-E856CB4A7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50560" y="233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c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Oval 8"/>
          <p:cNvSpPr/>
          <p:nvPr/>
        </p:nvSpPr>
        <p:spPr>
          <a:xfrm>
            <a:off x="1692360" y="3743280"/>
            <a:ext cx="135072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1461600" y="5904000"/>
            <a:ext cx="53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you ref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 C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folder in this emulator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are some these devices fold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855E-B447-48B5-8CE5-FDCE3C3741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c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1500480" y="22114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uetoo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348480" y="5257800"/>
            <a:ext cx="81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you use Bluetooth control library on emulator, emulator devices wi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onse the setting parameter or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when you change these file detail, you can get your expected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492360" y="2168640"/>
            <a:ext cx="190368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1AF7-98D8-4B85-B876-0DD36BC639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velopment Tool for Native Cli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826920" y="1944720"/>
            <a:ext cx="799308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Tools for Native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Microsoft (Soft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Studio 2005 + SP1 (or 2008 + SP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 Professional SD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.5.3 Developer Tool K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.5 Developer Tool Kit (If necessa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Sync 4.5 (or lat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Device Center 6.1 (for Windows Vis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* Please download tools listed above from Microsoft Home Pag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CASIO (Soft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SIO IT-300 BDK (Basic Development Ki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* Please download tools listed above from Microsoft Home Pag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  <a:hlinkClick r:id="rId1"/>
              </a:rPr>
              <a:t>http://www2.casio.co.jp/system_en/pa/PADealer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CASIO (Hard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-300 including HA-J65US (USB and charging unit) and USB c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1640" y="2708280"/>
            <a:ext cx="6205680" cy="3414600"/>
          </a:xfrm>
          <a:prstGeom prst="rect">
            <a:avLst/>
          </a:prstGeom>
          <a:ln w="0">
            <a:noFill/>
          </a:ln>
        </p:spPr>
      </p:pic>
      <p:sp>
        <p:nvSpPr>
          <p:cNvPr id="13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AA9-7205-49F2-A16C-BE6C199A91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893160" y="222408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 (Visual C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22"/>
          <p:cNvSpPr/>
          <p:nvPr/>
        </p:nvSpPr>
        <p:spPr>
          <a:xfrm>
            <a:off x="1916280" y="4599000"/>
            <a:ext cx="1035000" cy="181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BE01-C68E-4274-8EC7-DB8B059212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742680" y="198108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 (Visual C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62360" y="2124000"/>
            <a:ext cx="3646440" cy="2662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37000" y="3743280"/>
            <a:ext cx="3870360" cy="2825640"/>
          </a:xfrm>
          <a:prstGeom prst="rect">
            <a:avLst/>
          </a:prstGeom>
          <a:ln w="0">
            <a:noFill/>
          </a:ln>
        </p:spPr>
      </p:pic>
      <p:sp>
        <p:nvSpPr>
          <p:cNvPr id="144" name="Oval 25"/>
          <p:cNvSpPr/>
          <p:nvPr/>
        </p:nvSpPr>
        <p:spPr>
          <a:xfrm>
            <a:off x="6867360" y="4734000"/>
            <a:ext cx="1440000" cy="223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46280" y="2708280"/>
            <a:ext cx="3555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9EFB-A734-47BB-88FD-BBF819DC21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969480" y="198108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 (Visual C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22360" y="2496960"/>
            <a:ext cx="45450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55560" y="2570040"/>
            <a:ext cx="4456080" cy="3245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311640" y="3114720"/>
            <a:ext cx="5421240" cy="3286080"/>
          </a:xfrm>
          <a:prstGeom prst="rect">
            <a:avLst/>
          </a:prstGeom>
          <a:ln w="0">
            <a:noFill/>
          </a:ln>
        </p:spPr>
      </p:pic>
      <p:sp>
        <p:nvSpPr>
          <p:cNvPr id="15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2202-017D-4A90-B9F9-FEF88E2B35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969480" y="198108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 (Visual C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6462720" y="3700440"/>
            <a:ext cx="1440000" cy="223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593A-33C6-4738-A2A3-42C406D43E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888120" y="5950080"/>
            <a:ext cx="671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building the program, it is necessary to connect the IT-300 to the PC b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tive Sync.   Active Sync can be download from Microsoft Web sit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Group 44"/>
          <p:cNvGrpSpPr/>
          <p:nvPr/>
        </p:nvGrpSpPr>
        <p:grpSpPr>
          <a:xfrm>
            <a:off x="4876920" y="4049640"/>
            <a:ext cx="3655080" cy="1584000"/>
            <a:chOff x="4876920" y="4049640"/>
            <a:chExt cx="3655080" cy="1584000"/>
          </a:xfrm>
        </p:grpSpPr>
        <p:sp>
          <p:nvSpPr>
            <p:cNvPr id="160" name="Text Box 39"/>
            <p:cNvSpPr/>
            <p:nvPr/>
          </p:nvSpPr>
          <p:spPr>
            <a:xfrm>
              <a:off x="6157800" y="44100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B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40"/>
            <p:cNvSpPr/>
            <p:nvPr/>
          </p:nvSpPr>
          <p:spPr>
            <a:xfrm>
              <a:off x="6887520" y="4986360"/>
              <a:ext cx="1553760" cy="360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41"/>
            <p:cNvSpPr/>
            <p:nvPr/>
          </p:nvSpPr>
          <p:spPr>
            <a:xfrm>
              <a:off x="6797160" y="4049640"/>
              <a:ext cx="181080" cy="129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42"/>
            <p:cNvSpPr/>
            <p:nvPr/>
          </p:nvSpPr>
          <p:spPr>
            <a:xfrm>
              <a:off x="8350920" y="4049640"/>
              <a:ext cx="181080" cy="129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64" name="AutoShape 43"/>
            <p:cNvCxnSpPr>
              <a:endCxn id="162" idx="1"/>
            </p:cNvCxnSpPr>
            <p:nvPr/>
          </p:nvCxnSpPr>
          <p:spPr>
            <a:xfrm flipV="1">
              <a:off x="4876920" y="4698360"/>
              <a:ext cx="1920960" cy="935640"/>
            </a:xfrm>
            <a:prstGeom prst="curvedConnector5">
              <a:avLst>
                <a:gd name="adj1" fmla="val 49934"/>
                <a:gd name="adj2" fmla="val 50000"/>
                <a:gd name="adj3" fmla="val 49934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65" name="Rectangle 53"/>
          <p:cNvSpPr/>
          <p:nvPr/>
        </p:nvSpPr>
        <p:spPr>
          <a:xfrm>
            <a:off x="969480" y="212580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 (Visual C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59"/>
          <p:cNvGrpSpPr/>
          <p:nvPr/>
        </p:nvGrpSpPr>
        <p:grpSpPr>
          <a:xfrm>
            <a:off x="1219320" y="2590920"/>
            <a:ext cx="3671640" cy="3168360"/>
            <a:chOff x="1219320" y="2590920"/>
            <a:chExt cx="3671640" cy="3168360"/>
          </a:xfrm>
        </p:grpSpPr>
        <p:sp>
          <p:nvSpPr>
            <p:cNvPr id="167" name="Rectangle 7"/>
            <p:cNvSpPr/>
            <p:nvPr/>
          </p:nvSpPr>
          <p:spPr>
            <a:xfrm>
              <a:off x="1219320" y="2590920"/>
              <a:ext cx="3671640" cy="316836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4425840" y="5418000"/>
              <a:ext cx="233640" cy="243000"/>
            </a:xfrm>
            <a:prstGeom prst="ellipse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Oval 10"/>
            <p:cNvSpPr/>
            <p:nvPr/>
          </p:nvSpPr>
          <p:spPr>
            <a:xfrm>
              <a:off x="2521080" y="5514840"/>
              <a:ext cx="139680" cy="146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Oval 11"/>
            <p:cNvSpPr/>
            <p:nvPr/>
          </p:nvSpPr>
          <p:spPr>
            <a:xfrm>
              <a:off x="2706840" y="5514840"/>
              <a:ext cx="139680" cy="146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Oval 12"/>
            <p:cNvSpPr/>
            <p:nvPr/>
          </p:nvSpPr>
          <p:spPr>
            <a:xfrm>
              <a:off x="2892600" y="5514840"/>
              <a:ext cx="139680" cy="146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Oval 13"/>
            <p:cNvSpPr/>
            <p:nvPr/>
          </p:nvSpPr>
          <p:spPr>
            <a:xfrm>
              <a:off x="3171960" y="5564160"/>
              <a:ext cx="185760" cy="493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Oval 14"/>
            <p:cNvSpPr/>
            <p:nvPr/>
          </p:nvSpPr>
          <p:spPr>
            <a:xfrm>
              <a:off x="3403440" y="5564160"/>
              <a:ext cx="185760" cy="493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Oval 15"/>
            <p:cNvSpPr/>
            <p:nvPr/>
          </p:nvSpPr>
          <p:spPr>
            <a:xfrm>
              <a:off x="3635280" y="5564160"/>
              <a:ext cx="185760" cy="493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75" name="Picture 58" descr=""/>
            <p:cNvPicPr/>
            <p:nvPr/>
          </p:nvPicPr>
          <p:blipFill>
            <a:blip r:embed="rId1"/>
            <a:stretch/>
          </p:blipFill>
          <p:spPr>
            <a:xfrm>
              <a:off x="1332000" y="2843280"/>
              <a:ext cx="3465360" cy="226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36"/>
          <p:cNvSpPr/>
          <p:nvPr/>
        </p:nvSpPr>
        <p:spPr>
          <a:xfrm>
            <a:off x="476280" y="4059360"/>
            <a:ext cx="4680000" cy="1054080"/>
          </a:xfrm>
          <a:prstGeom prst="wedgeRoundRectCallout">
            <a:avLst>
              <a:gd name="adj1" fmla="val -6851"/>
              <a:gd name="adj2" fmla="val -132833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application program will be downloaded to the IT-300 after compiling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breakpoints are set, the program stops at each point while the IT-300 is connected as remote connectio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093080" y="2438280"/>
            <a:ext cx="1209600" cy="2454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284960" y="2664000"/>
            <a:ext cx="8445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4:35:44Z</dcterms:created>
  <dc:creator>casio</dc:creator>
  <dc:description/>
  <dc:language>en-US</dc:language>
  <cp:lastModifiedBy>casio</cp:lastModifiedBy>
  <dcterms:modified xsi:type="dcterms:W3CDTF">2011-08-10T07:34:57Z</dcterms:modified>
  <cp:revision>30</cp:revision>
  <dc:subject/>
  <dc:title>スライド 1</dc:title>
</cp:coreProperties>
</file>